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gif" ContentType="image/gif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BFA-51B4-4ADA-9633-2C5C1C30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E02-8E19-493D-A1E1-48CA294B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07D53-037A-4C46-916F-F85B1CB9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1F23F-37E5-4D49-9E5E-DF010703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585FE-CAC1-4C60-89D6-7822F417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10986-488B-43A9-9BC6-7003DFF0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7727F-B536-4B61-944E-F5299698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89487-0EFE-473C-A70E-45F97CFA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3E1D9-075E-4505-ACEF-D2146258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3405E-CDE3-437C-A809-710B0219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8A7D8-582B-43B7-86B2-8DB0D36B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3F6E6-C8C7-4E85-98F3-7EFED3D3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8F0-D834-4B40-BDEA-BECD14CC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CDD36-1893-44E9-B2A8-8FE3C978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AFFEF-E8DC-4BB3-818A-B72BDDAE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2764A-350D-4CC6-B774-62F5031F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5A955-3327-4F66-A3C4-55DDC83C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8A413-B1FD-4AF0-A1D8-80372400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FA32F-4BB2-44E4-A17E-C4EC4EEF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9E63A-101B-4673-9160-2F0CF1F0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34FA6-EA2D-42C3-8781-17D55196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21960-306A-4D81-AE23-453F47F2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55E97-675E-4B17-A222-AF1301AA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0C7-58AB-43FE-8AD3-E2A86C5F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5FE01-E2C9-4992-9930-C9280F77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7FE45-5546-4D85-9039-73E81FCA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DAADE-DB6D-45EF-8B10-2FB81AB5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32897-2B0B-4749-A1D2-DEC4C236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4C348-3E88-4779-9821-0EB62F51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DF719-892D-465D-A30F-2ADD69BE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D8A74-6E9C-4C5A-82B2-A8DCCA47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44F0A-C22E-4FA8-956B-21B1210A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E76E1-963C-4B5E-888C-979DD6E9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AA889-234E-4B09-B50F-ED332CE0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E3E3-D9E3-4B58-9015-B9DB6625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A7ABE-8E5E-4FB6-9EA9-D2A60C7C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8E875-27C0-480F-8968-EBA2AA99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740BA-637C-42B0-A2CA-60CE9995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49741-89D1-49A5-8381-24611ED9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A3B3A-B37A-47DE-8679-5F5DFC9B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6F699-B9AA-49E1-8EC8-52C6DDE3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D529A-346A-464F-987E-EEC5260F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B1A3C-A1D3-4C5D-814A-30BEEDCF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5A8B8-B588-4A83-8A13-2A8C87C2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81DCF-451E-4672-8456-94245B8E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A0E0-494A-40E5-98C1-6DF54D6D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20080-74ED-448A-BA62-A70A9FB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BBD57-3AAD-41C1-AA84-FB16ABBF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12B75-EB4E-4765-82C6-05F6EDBD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EB771-6EE4-4AD2-9C18-8063F208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7E216-2AB5-4250-880C-53310BB5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97A6-9528-41E3-83E5-B5424011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3466-C6C0-47B2-9729-621F0920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2074-E37C-4FA9-9452-AC49FFDD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D8AB-EE07-4E6B-8A40-A2B05142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DE55-5482-4F0A-A3DA-D833CDFB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345-8E8E-4F7C-844C-53753CF6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50DC-AF43-4CA1-942D-BE0EFCAF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D7A7-02A3-4294-92F6-94462C1D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A8DB-DA17-4762-9E14-AC0A6DDE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3F27-F307-4314-94F3-B10F8C21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F627-2AD2-4834-B919-B263FD8E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9DB5D-34D8-4DCB-957A-8706C882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3BEDB-5B4C-4E33-9C95-FD9A8E28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1F69F-26F0-4F72-A59D-06BF32E5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B924-75FC-4489-B2EA-6B3C9C1C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6643B-A8E5-4EE0-A506-75704BA1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746-81B9-4B8A-AD60-DA4CFC71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D7F57-1FEC-484C-A3EE-299A2B02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EFD55-5EA5-495B-8F86-B69388F1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C8B87-434E-48AB-916C-DF88CF18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523C4-7068-4A16-919C-41FAE6FA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53D52-58E7-41F2-AA32-24A40EE9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0E488-B9DA-4C78-AEA4-C1BF9F49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81CCE-9BEF-4F67-AEC6-8B183BE4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BAC77-FC86-4648-AAFA-42B4D9AE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BDE27-B387-4C3D-B3B2-069472C5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5C4B1-866C-49B3-AB19-5AFA0A5B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A31-5824-49B4-ABB6-D6EDDA7C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19214-04ED-4354-B96B-2152E594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2D6BE-5B11-4C92-BFEA-F67D4696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956AA-1496-4EBF-A5E5-4DCBEE32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210F2-0F44-43E2-84F1-7C11A1DC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7CC5A-0449-4887-A7B3-5BA242EA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A68D8-7DC5-4D7A-9155-C77854FA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41C5E-1C4A-44CF-AA71-DE160CDD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852E2-BD79-4431-B67D-D8EEA4C3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3365D-B4C4-4511-A69D-71E97DE2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93F95-C07D-4963-8ECF-B2DA2882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A3F-7503-461D-B95C-F4EA290A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100E6-AFB2-4D09-9495-DB5A6E0B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CFF1E-03A2-4BAC-8070-BE37A11F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549D6-46EE-4939-AA4E-E2309473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F11BD-4208-43FD-8138-F0B41A9C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E89DF-FCAA-4283-A03D-36273A76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2AC55-1EE9-42D1-8C77-7D03DB57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8C4C4-8319-4721-8614-BC6BE0A2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4F58F-DF11-4FDD-BDBF-1D039CB1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9B480-E686-4CAE-8043-DBC91466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FFCDA-1168-4DA8-A893-A49F4AF5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87E-03CF-40F3-A043-4DEA5A68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9A113-D15A-4C81-83F6-FB77E2F0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617D5-7B2F-441C-94C0-0C72956C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8BBB0-1699-4191-B23E-463B6313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B758A-CB75-4800-8C88-2CBA488C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E7A9D-E487-43E6-BB35-ACC35272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F43D7-7769-4560-9E55-F12C9AD2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1589D-F053-4031-9DF9-D8F5DC39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779C1-6F35-436B-9BC7-2A778C25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B3193-B493-4832-A777-1C2D732D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5B81E-4A99-4EAB-87EE-06DDD937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1A2-62BD-4582-A353-9859FB86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25C13-DD80-4F94-890A-6BB47096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F69F6-9487-4CF6-9B87-50DE605A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E238A-82BA-43AC-B055-7E3DF4A3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55451-ED91-44D0-AACD-D1DEF8A3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59DF4-337B-4F02-AB9E-840ED809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F1EE4-B434-4698-B4BE-82344D33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9ADFF-F25D-4C10-8F49-99B789A6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4DEC1-A12C-4FE8-A97A-583C0CF4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4058F-3898-4D06-A548-A6E47E63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100C4-DF7C-4B70-B8E7-4227D2B7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7E0-2BD0-4E3A-A7D1-DEB20893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5AAE3-F522-4D6A-83DB-49DA4082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3BFE7-BD8D-49AF-8605-6749F845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E0B4C-16F1-417B-8C13-F60B3DD9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F9185-5092-44A8-8D86-A71615B2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A883F-4CAB-468E-ADEC-8F919A6F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7D067-804E-4B18-B00D-20833958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99270-7D8C-4CDA-969B-3705BE36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63B98-2DD5-4B94-A71F-D3D26736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DE411-6CE1-4CFF-BE8B-64B0F26F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941A0-1C6D-48E3-BED4-EEABA50D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794-8D67-4000-8DD4-FBE88D5F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8CD49-30C4-47EC-B681-5855BD7B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582E3-3609-4A45-8719-369E0EFF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9D7A7-EE17-4DDF-B034-DA150E82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A3E20-E4EF-4052-81F7-3F7F0725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42DE1-A306-4404-A861-A328AC44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6F584-03C0-4B38-A892-A5CB2E2A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E6B3C-2137-400C-AC25-EB9FA98E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8D1CA-8835-451C-8689-1FB8B936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4032F-DD18-4A6C-9617-54F9EA70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F243C-5F3B-4201-A117-B76C1DC3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9C4F-9927-4C4E-9162-4BA8FA7B80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BB89-BB2B-43B6-8A3A-6147C0675D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5B66-FA5E-4BA1-A72F-1F6F760A23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5851-C191-4303-A751-727811EB81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AE21-D7E6-4E4B-9E2F-8FAA588922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256F-7008-42BD-851D-4C2603010C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3E83-FFBD-46C9-95D3-9E8A995764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EADE-4B50-4524-B831-983D32DF58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024F-2737-4216-8CAA-D7D35BE415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D28F-C658-4795-9295-CAD08FEEE0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BA09-5E2E-4F59-AF68-B33B00B08B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B47C-1235-412A-A2B2-B28971F4B7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www.redbridgerenet.co.uk/ictinset/march03/passover/passoverstory.html" TargetMode="External"/><Relationship Id="rId6" Type="http://schemas.openxmlformats.org/officeDocument/2006/relationships/image" Target="../media/image10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hyperlink" Target="http://www.youtube.com/watch?v=3oX-Kcx2BAc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www.chabad.org/kids/article_cdo/aid/361604/jewish/Ten-Plagues.htm" TargetMode="External"/><Relationship Id="rId6" Type="http://schemas.openxmlformats.org/officeDocument/2006/relationships/image" Target="../media/image12.png"/><Relationship Id="rId7" Type="http://schemas.openxmlformats.org/officeDocument/2006/relationships/hyperlink" Target="http://www.sporcle.com/games/Doubledome/plagues_egypt" TargetMode="External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hyperlink" Target="http://www.behrmanhouse.com/family_backup/mahnishtanah/index.swf" TargetMode="External"/><Relationship Id="rId4" Type="http://schemas.openxmlformats.org/officeDocument/2006/relationships/image" Target="../media/image10.gif"/><Relationship Id="rId5" Type="http://schemas.openxmlformats.org/officeDocument/2006/relationships/image" Target="../media/image15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hyperlink" Target="http://www.akidsheart.com/holidays/days/seder.htm" TargetMode="External"/><Relationship Id="rId5" Type="http://schemas.openxmlformats.org/officeDocument/2006/relationships/image" Target="../media/image11.png"/><Relationship Id="rId6" Type="http://schemas.openxmlformats.org/officeDocument/2006/relationships/hyperlink" Target="http://babaganewz.com/games/do-you-know-your-seder-plate" TargetMode="External"/><Relationship Id="rId7" Type="http://schemas.openxmlformats.org/officeDocument/2006/relationships/image" Target="../media/image12.png"/><Relationship Id="rId8" Type="http://schemas.openxmlformats.org/officeDocument/2006/relationships/hyperlink" Target="http://www.elijahrocks.net/Passover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babaganewz.com/games/jewpardy-pesach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kosher4passover.com/kids.htm" TargetMode="External"/><Relationship Id="rId5" Type="http://schemas.openxmlformats.org/officeDocument/2006/relationships/image" Target="../media/image12.png"/><Relationship Id="rId6" Type="http://schemas.openxmlformats.org/officeDocument/2006/relationships/hyperlink" Target="http://www.torahtots.com/holidays/pesach/wordgame/pesachwordgame.htm" TargetMode="External"/><Relationship Id="rId7" Type="http://schemas.openxmlformats.org/officeDocument/2006/relationships/image" Target="../media/image13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https://encrypted-tbn3.gstatic.com/images?q=tbn:ANd9GcRi1MdcweYWzwP8oA-zZPnqMuciZgTr3z1tU2I3kMvRtMs4i-KjXw"/>
          <p:cNvPicPr/>
          <p:nvPr/>
        </p:nvPicPr>
        <p:blipFill>
          <a:blip r:embed="rId1"/>
          <a:stretch/>
        </p:blipFill>
        <p:spPr>
          <a:xfrm>
            <a:off x="1846440" y="2133720"/>
            <a:ext cx="5638680" cy="383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49" name="Picture 3" descr="C:\Users\jam326 Desk Top\AppData\Local\Microsoft\Windows\Temporary Internet Files\Content.IE5\K0LVA38I\MC90043491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85120" y="5715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50" name="Rectangle 1" descr=""/>
          <p:cNvPicPr/>
          <p:nvPr/>
        </p:nvPicPr>
        <p:blipFill>
          <a:blip r:embed="rId4"/>
          <a:stretch/>
        </p:blipFill>
        <p:spPr>
          <a:xfrm>
            <a:off x="414360" y="23760"/>
            <a:ext cx="831528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C:\Users\jam326 Desk Top\AppData\Local\Microsoft\Windows\Temporary Internet Files\Content.IE5\K0LVA38I\MC90043491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336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https://encrypted-tbn0.gstatic.com/images?q=tbn:ANd9GcSwY-NGFGkjHUqQQWDBOEinGCOQWk5PrjIntDBwMkhiDbamfN_o"/>
          <p:cNvPicPr/>
          <p:nvPr/>
        </p:nvPicPr>
        <p:blipFill>
          <a:blip r:embed="rId3"/>
          <a:stretch/>
        </p:blipFill>
        <p:spPr>
          <a:xfrm>
            <a:off x="204840" y="676440"/>
            <a:ext cx="4138560" cy="5468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3" name="chsm=de8614d569a0989d21e7dadf1ade58cf&amp;sc=7792509" descr=""/>
          <p:cNvPicPr/>
          <p:nvPr/>
        </p:nvPicPr>
        <p:blipFill>
          <a:blip r:embed="rId4"/>
          <a:stretch/>
        </p:blipFill>
        <p:spPr>
          <a:xfrm>
            <a:off x="5410080" y="714240"/>
            <a:ext cx="3048120" cy="43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C:\Users\jam326 Desk Top\AppData\Local\Microsoft\Windows\Temporary Internet Files\Content.IE5\K0LVA38I\MC90043491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336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" descr="https://encrypted-tbn3.gstatic.com/images?q=tbn:ANd9GcRtC8jBRlwszGtk4yHiDNU9LiKoG_qbfHekyFbs7hevqnY4lU880A"/>
          <p:cNvPicPr/>
          <p:nvPr/>
        </p:nvPicPr>
        <p:blipFill>
          <a:blip r:embed="rId3"/>
          <a:stretch/>
        </p:blipFill>
        <p:spPr>
          <a:xfrm rot="19737000">
            <a:off x="585360" y="1255320"/>
            <a:ext cx="4496040" cy="2927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6" name="Picture 4" descr="https://encrypted-tbn3.gstatic.com/images?q=tbn:ANd9GcS-OkfucdPk3oq8sBa3EkYTi7kUCms1hxn01ktuxOvpjP9nzO1F"/>
          <p:cNvPicPr/>
          <p:nvPr/>
        </p:nvPicPr>
        <p:blipFill>
          <a:blip r:embed="rId4"/>
          <a:stretch/>
        </p:blipFill>
        <p:spPr>
          <a:xfrm>
            <a:off x="3726000" y="3865680"/>
            <a:ext cx="1800000" cy="2533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7" name="Picture 5" descr="C:\Users\jam326 Desk Top\AppData\Local\Microsoft\Windows\Temporary Internet Files\Content.IE5\ED6NEGBW\MM900395726[1]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37160" y="4267080"/>
            <a:ext cx="1679760" cy="1143000"/>
          </a:xfrm>
          <a:prstGeom prst="rect">
            <a:avLst/>
          </a:prstGeom>
          <a:ln w="0">
            <a:noFill/>
          </a:ln>
        </p:spPr>
      </p:pic>
      <p:pic>
        <p:nvPicPr>
          <p:cNvPr id="558" name="chsm=6d3f2562cba91de01389950a923473f0&amp;sc=7792566" descr=""/>
          <p:cNvPicPr/>
          <p:nvPr/>
        </p:nvPicPr>
        <p:blipFill>
          <a:blip r:embed="rId7"/>
          <a:stretch/>
        </p:blipFill>
        <p:spPr>
          <a:xfrm>
            <a:off x="5927760" y="387360"/>
            <a:ext cx="26985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C:\Users\jam326 Desk Top\AppData\Local\Microsoft\Windows\Temporary Internet Files\Content.IE5\K0LVA38I\MC90043491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336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C:\Users\jam326 Desk Top\AppData\Local\Microsoft\Windows\Temporary Internet Files\Content.IE5\ELTVDSBY\MC900437050[1]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029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C:\Users\jam326 Desk Top\AppData\Local\Microsoft\Windows\Temporary Internet Files\Content.IE5\WZ1N6GU5\MC900437051[1]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14680" y="5029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C:\Users\jam326 Desk Top\AppData\Local\Microsoft\Windows\Temporary Internet Files\Content.IE5\K0LVA38I\MC900437052[1]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81560" y="5029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" descr="http://www.headofthejewishclass.com/productsbig/10plagues_picset2.jpg"/>
          <p:cNvPicPr/>
          <p:nvPr/>
        </p:nvPicPr>
        <p:blipFill>
          <a:blip r:embed="rId9"/>
          <a:stretch/>
        </p:blipFill>
        <p:spPr>
          <a:xfrm rot="20349000">
            <a:off x="407520" y="1223640"/>
            <a:ext cx="4992840" cy="3209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64" name="chsm=82d7fabc9c59b50350d2e3bee924d926&amp;sc=7792597" descr=""/>
          <p:cNvPicPr/>
          <p:nvPr/>
        </p:nvPicPr>
        <p:blipFill>
          <a:blip r:embed="rId10"/>
          <a:stretch/>
        </p:blipFill>
        <p:spPr>
          <a:xfrm>
            <a:off x="5562720" y="907920"/>
            <a:ext cx="3047760" cy="42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C:\Users\jam326 Desk Top\AppData\Local\Microsoft\Windows\Temporary Internet Files\Content.IE5\K0LVA38I\MC90043491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3360" y="54100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"/>
          <p:cNvSpPr/>
          <p:nvPr/>
        </p:nvSpPr>
        <p:spPr>
          <a:xfrm>
            <a:off x="152280" y="5335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To help remember all that our ancestors went through we have a Passover Seder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7" name="Picture 5" descr="C:\Users\jam326 Desk Top\AppData\Local\Microsoft\Windows\Temporary Internet Files\Content.IE5\ED6NEGBW\MM900395726[1]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95840" y="4838760"/>
            <a:ext cx="1681200" cy="1143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" descr="https://encrypted-tbn3.gstatic.com/images?q=tbn:ANd9GcSYUgJ0jBwJuPxcdO1BhV2DlDBvHUMMUycj1a4OI9_Jn9g23dfs"/>
          <p:cNvPicPr/>
          <p:nvPr/>
        </p:nvPicPr>
        <p:blipFill>
          <a:blip r:embed="rId5"/>
          <a:stretch/>
        </p:blipFill>
        <p:spPr>
          <a:xfrm>
            <a:off x="181080" y="1523880"/>
            <a:ext cx="4960800" cy="4457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69" name="chsm=4d267131601ff4ceda8f098df61974fb&amp;sc=7792686" descr=""/>
          <p:cNvPicPr/>
          <p:nvPr/>
        </p:nvPicPr>
        <p:blipFill>
          <a:blip r:embed="rId6"/>
          <a:stretch/>
        </p:blipFill>
        <p:spPr>
          <a:xfrm>
            <a:off x="5595840" y="1143000"/>
            <a:ext cx="30481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C:\Users\jam326 Desk Top\AppData\Local\Microsoft\Windows\Temporary Internet Files\Content.IE5\K0LVA38I\MC90043491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336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" descr="http://www.messianic-torah-truth-seeker.org/Torah/Pesach/seder.jpg"/>
          <p:cNvPicPr/>
          <p:nvPr/>
        </p:nvPicPr>
        <p:blipFill>
          <a:blip r:embed="rId3"/>
          <a:stretch/>
        </p:blipFill>
        <p:spPr>
          <a:xfrm>
            <a:off x="457200" y="1600200"/>
            <a:ext cx="3429000" cy="3230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72" name="Rectangle 1"/>
          <p:cNvSpPr/>
          <p:nvPr/>
        </p:nvSpPr>
        <p:spPr>
          <a:xfrm>
            <a:off x="378000" y="457200"/>
            <a:ext cx="89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How Well do you know your Seder Plate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73" name="Picture 3" descr="C:\Users\jam326 Desk Top\AppData\Local\Microsoft\Windows\Temporary Internet Files\Content.IE5\ELTVDSBY\MC900437050[1]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5029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" descr="C:\Users\jam326 Desk Top\AppData\Local\Microsoft\Windows\Temporary Internet Files\Content.IE5\WZ1N6GU5\MC900437051[1]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14680" y="5029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6" descr="C:\Users\jam326 Desk Top\AppData\Local\Microsoft\Windows\Temporary Internet Files\Content.IE5\K0LVA38I\MC900437052[1]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81560" y="5029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76" name="chsm=38453320b48bc84e8ec4e64dc2cc4ce1&amp;sc=7792732" descr=""/>
          <p:cNvPicPr/>
          <p:nvPr/>
        </p:nvPicPr>
        <p:blipFill>
          <a:blip r:embed="rId10"/>
          <a:stretch/>
        </p:blipFill>
        <p:spPr>
          <a:xfrm>
            <a:off x="5261040" y="1752480"/>
            <a:ext cx="30477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-128520" y="291960"/>
            <a:ext cx="9601200" cy="16099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" descr="C:\Users\jam326 Desk Top\AppData\Local\Microsoft\Windows\Temporary Internet Files\Content.IE5\ELTVDSBY\MC900437050[1]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" y="15336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C:\Users\jam326 Desk Top\AppData\Local\Microsoft\Windows\Temporary Internet Files\Content.IE5\WZ1N6GU5\MC900437051[1]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38480" y="15336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C:\Users\jam326 Desk Top\AppData\Local\Microsoft\Windows\Temporary Internet Files\Content.IE5\K0LVA38I\MC900437052[1]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48520" y="13590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" descr="C:\Users\jam326 Desk Top\AppData\Local\Microsoft\Windows\Temporary Internet Files\Content.IE5\K0LVA38I\MC900437053[1].png"/>
          <p:cNvPicPr/>
          <p:nvPr/>
        </p:nvPicPr>
        <p:blipFill>
          <a:blip r:embed="rId8"/>
          <a:stretch/>
        </p:blipFill>
        <p:spPr>
          <a:xfrm>
            <a:off x="1981080" y="307332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C:\Users\jam326 Desk Top\AppData\Local\Microsoft\Windows\Temporary Internet Files\Content.IE5\ED6NEGBW\MC900437054[1].png"/>
          <p:cNvPicPr/>
          <p:nvPr/>
        </p:nvPicPr>
        <p:blipFill>
          <a:blip r:embed="rId9"/>
          <a:stretch/>
        </p:blipFill>
        <p:spPr>
          <a:xfrm>
            <a:off x="4879800" y="30639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C:\Users\jam326 Desk Top\AppData\Local\Microsoft\Windows\Temporary Internet Files\Content.IE5\ELTVDSBY\MC900437055[1].png"/>
          <p:cNvPicPr/>
          <p:nvPr/>
        </p:nvPicPr>
        <p:blipFill>
          <a:blip r:embed="rId10"/>
          <a:stretch/>
        </p:blipFill>
        <p:spPr>
          <a:xfrm>
            <a:off x="7429680" y="307332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9" descr="C:\Users\jam326 Desk Top\AppData\Local\Microsoft\Windows\Temporary Internet Files\Content.IE5\WZ1N6GU5\MC900437056[1].png"/>
          <p:cNvPicPr/>
          <p:nvPr/>
        </p:nvPicPr>
        <p:blipFill>
          <a:blip r:embed="rId11"/>
          <a:stretch/>
        </p:blipFill>
        <p:spPr>
          <a:xfrm>
            <a:off x="266760" y="4851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" descr="C:\Users\jam326 Desk Top\AppData\Local\Microsoft\Windows\Temporary Internet Files\Content.IE5\K0LVA38I\MC900437057[1].png"/>
          <p:cNvPicPr/>
          <p:nvPr/>
        </p:nvPicPr>
        <p:blipFill>
          <a:blip r:embed="rId12"/>
          <a:stretch/>
        </p:blipFill>
        <p:spPr>
          <a:xfrm>
            <a:off x="3429000" y="475452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C:\Users\jam326 Desk Top\AppData\Local\Microsoft\Windows\Temporary Internet Files\Content.IE5\ELTVDSBY\MC900437058[1].png"/>
          <p:cNvPicPr/>
          <p:nvPr/>
        </p:nvPicPr>
        <p:blipFill>
          <a:blip r:embed="rId13"/>
          <a:stretch/>
        </p:blipFill>
        <p:spPr>
          <a:xfrm>
            <a:off x="6248520" y="475452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C:\Users\jam326 Desk Top\AppData\Local\Microsoft\Windows\Temporary Internet Files\Content.IE5\K0LVA38I\MC900434910[1].png"/>
          <p:cNvPicPr/>
          <p:nvPr/>
        </p:nvPicPr>
        <p:blipFill>
          <a:blip r:embed="rId14"/>
          <a:stretch/>
        </p:blipFill>
        <p:spPr>
          <a:xfrm>
            <a:off x="7658280" y="560376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0:53:21Z</dcterms:created>
  <dc:creator>jam326 Desk Top</dc:creator>
  <dc:description/>
  <dc:language>en-US</dc:language>
  <cp:lastModifiedBy>Jodi Mishkin</cp:lastModifiedBy>
  <dcterms:modified xsi:type="dcterms:W3CDTF">2013-03-20T18:46:41Z</dcterms:modified>
  <cp:revision>14</cp:revision>
  <dc:subject/>
  <dc:title>PowerPoint Presentation</dc:title>
</cp:coreProperties>
</file>